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8B1-EDD7-46EB-9B15-25692DC4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13F-D7C9-4166-AC0A-938CF54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5382E-24F7-4543-806A-D830CA2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DD1B5-7174-478E-8B8F-1E05FC6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BE0D-3969-431D-851C-651F9B1B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A58BE-9064-4093-ADEF-4CE0BA8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B3EF8-EE80-427A-BD17-AFB1074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4E392-AA3E-4761-B330-4D5F707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3889-175F-4F3A-995D-90E9B57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3EC55-E52C-48E8-9F40-7E51FBCD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8D827-AF91-499C-8DF0-10987E4B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68040-E24D-4727-891C-90826F74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DBD-5BBB-45E8-9337-A02E780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06C2C-AA93-4029-861F-4DFB4619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48599-220A-4151-9218-32B9BEB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CA6A8-CFA7-4669-BB64-CF87C5CE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32EBC-3F39-4A3D-B96F-44CA965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F7F8-0B3D-44F6-B3D4-4562674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45634-CEF6-4A32-BB7B-F2FDD2DF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D747-EEEF-4766-9596-284FCD1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4DF28-617F-4516-A173-E55968A6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A6788-21CC-4FB8-8C5D-32F0E2FB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DF47A-282B-4AD7-8050-07752227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96C-BCF2-46B1-AB4E-C0C2C3B3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21191-0ABF-4005-86CA-E8A4DCE4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EF3C4-2685-40EB-9F01-C34A643A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2718-125E-4D18-985A-854CF0E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11F7D-6B0E-4371-9A9C-FA068995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ABF3D-6AA5-4178-8753-22736639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85ABE-300D-45E9-9A12-EA8B7A4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D97BB-B7FD-491F-957B-CD4809F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855D-38E1-49F4-B79C-1F426F6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63F90-E342-4521-A9A9-79DADC2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53A1C-F9E6-42C5-B4EB-6D520BA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E922-759B-4B7C-9266-18EE1957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08C1C-C92A-46D4-B1A0-2A888B2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F117-3746-4860-A9AF-FAD07005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6C03-2130-448C-9A5A-B6C8A154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FE6C9-D3B6-4F7A-99A8-AA0CD3CC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083D-5E33-490D-81EF-0CC60A9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89CDB-876D-45BE-BDE2-CAF01A3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BEB9-CB10-42D9-AC68-6A96912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DF7F8-2F0D-403F-A2B5-BE67EBE6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F0BA9-C9E3-4DD1-997B-19EBF7B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B65FB-0AB6-4A1C-92CC-F203251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7B6-FC73-44E8-AE1E-ABAF37F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D5D3-C6DB-45D9-8922-D73CDBB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2ABEF-2A4C-494F-964A-2937923A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505A1-159E-4662-9D04-95F9C5B9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A61DE-22A6-4E14-8AFD-6EFD6CB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74FDE-3C83-4B6D-BCCA-AAECEB48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139-35F9-4C13-B446-1A70937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D8D8-3CEC-4D0B-8E85-C0AF3CD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BB9-37B8-460C-A493-1954591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4ABB-B786-4AA5-96EB-CD9D7452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947-194B-4BE2-91CA-6885023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34F-A26A-4AC4-A6DB-C886EC2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DB6F-9638-4F51-91A5-D63FAD3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4BD7-5E5C-41A7-B5A2-E2B2BDE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69F-EDC3-4ED0-A670-1F8D622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A7E-5605-47CC-8150-A2ACF6CE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7FA5-FD4F-45A7-B8B8-105257A4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40EA-9040-486F-BC17-E1560A00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2C17-2F37-4505-8419-9EF8B0A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4432-614D-4941-8748-5005F07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575B-C2A8-474E-AF40-FC8B6114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2843-6BBF-4154-B308-5A2D4C9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DEE-9F6B-434F-8DFD-F77D0B14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EBFB-43CA-4851-A7C2-DBB7576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F085-5510-4711-A8D5-801985B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8D74-5C6D-403E-8FCF-D8988DE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1262-C3F3-4F53-B2F4-C808473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88CD-BF0C-4724-B835-C0C9FCBD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D196-A520-4A9B-B49B-196E20E7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3237-DAFC-4EC1-AF75-5C12CD33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CD322-A649-47EA-AD5C-7FF1F310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9992-9810-441A-809C-C6831B8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B811-2323-4EA2-96CE-5730DFF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787-4535-4998-920B-BDE47CFB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E3F5-ADDD-40EF-AA8B-1CED4CD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0F90-F387-46BF-8EA4-BB09C4D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CFA9-B557-4C54-94A8-32A1318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7851-1D7F-48E7-B049-A5DE822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241E-7F20-4979-9ED3-D60B9E3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DCDB-CA42-4CEB-A6C4-8255621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6A2A-5B32-4039-B7ED-E5D3A7DA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F05F-AE22-41AE-A1E1-2F45B008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BEC4-7E36-4ACC-B6E0-A7F108B4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A44E-F731-4E24-8C23-D360F70A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CCA-0FEC-4AF4-BBA7-49996AB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2E4C-CC47-49C7-8A91-230C871D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88FA-6941-4B15-BC85-D61693A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EEFE-A50D-4717-A317-1726B21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4D2B-657B-421F-895E-CB1E8470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85F0-708D-4E53-9E4F-0331D525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9CC5-5125-44AC-B51B-FED1E88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A9DB4-FB12-47A3-910B-CEE5CFC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90E4-4271-4951-97BE-571B8D5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BFC7-9697-4B66-9038-D305C20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EDDC-E8EB-4D13-B720-78F3809E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33B-C7B7-4B93-B9C3-5225AF5D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CA44-3D63-4CF5-B2E3-896B6683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32F1-23CE-4EB1-B0AD-EB8651F1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F675-B940-4C13-B914-92CCF15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0BD6-36EA-48FF-B688-B3C9265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19F5-46BF-4FF5-850B-2024FF7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7A8D-8A77-41CC-9C0C-35A07EF4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28CD-548C-42EF-8FB3-4F7DFD1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C0C0-A6E2-4122-938E-D993EAC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019E-0381-4991-B3E0-B164F2C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A4C4F-6F8D-4F63-AEE3-AF0A3DB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E68-EF4B-4D5F-89AF-35BDD7C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C8DA-4E60-4231-881E-62826129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34000-85A5-4B7E-B72C-6CCFEB9A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54B8-212C-4CC1-AC08-4BE8D776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E735-7309-4346-83CC-77D1E09D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426E-D7EF-4C87-9BE6-88B1F127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9F2E-4E7A-4D48-A65C-8CE68243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FCCC-9D15-4AE2-9D55-849035E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C2728-E45F-4A2A-BE7B-97B2121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F77A-1B4B-4688-B634-13DAD0A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ED71-05B6-4F81-9BE5-2ADEFE5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43F-89A9-45D9-8A78-345A638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3A4E-5737-4A88-A447-B8D3865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5D59-5735-44C1-AD1D-3D5867F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AE823-98D1-44E7-80A6-8D415AA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A09F-8A4A-4360-AD6F-08181178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7F00-FA5E-4C36-9DE0-B04FCDC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38AE-94D8-49B6-8CAF-086D72A2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5860-60DA-4740-88BC-55BE813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B38E-0678-44E7-8B9B-91F1D279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191B8-2B93-4720-A836-FE5B75D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8CEE-91A3-455C-9BBD-7B03031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E5C-23E7-468F-81E5-F7B394F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A8A0A-E849-4430-9CF4-02D5201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BE98-E0D1-4E96-AC9D-664F068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F30DF-6014-4388-BDE4-2E6CA00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C6565-91A4-49B8-AC0C-B102E94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CA01-197C-4E0D-AD17-49E2D75C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A693-A0D0-434E-A975-9CF9CEAD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F6CC-0680-49FC-B589-56D67A51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50CB-C9C6-4A47-B576-050B358C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E6B9F-3A19-4A9A-8E47-AE841E0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077D-03DE-45FF-B349-3E7598B2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0E8-E326-41BF-A49E-4C5577A78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E77-A048-4239-8748-917E0613F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071-5A4F-415B-B1AA-8D03CF98E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067-D7C4-4D00-B061-A5505DBC1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08D3-720D-4327-AE47-69F9C354D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A1D-E4E3-4226-AD22-7018F93BA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5AE2-376E-4F48-8115-CC3EF2EEF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4F43-B203-49D9-9307-81D0F75E4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3B7-74C2-4FA5-90D6-B3EDA35DD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AF9-4E06-432D-9F8F-9FA328BC1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F2E9-6EB5-421F-9D15-4660F4410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DF7-6490-4D27-83F3-0959F2777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hyperlink" Target="http://www.geo.brown.edu/research/Assets/plankto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bgnet.mobot.org/salt/oceans/pict/zones2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57200" y="2286000"/>
            <a:ext cx="8229600" cy="3505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What does the competitive exclusion principle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3"/>
          <p:cNvSpPr/>
          <p:nvPr/>
        </p:nvSpPr>
        <p:spPr>
          <a:xfrm>
            <a:off x="228600" y="1828800"/>
            <a:ext cx="8763120" cy="50292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fish that live in streams are adapted to fast mov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salmon"/>
          <p:cNvPicPr/>
          <p:nvPr/>
        </p:nvPicPr>
        <p:blipFill>
          <a:blip r:embed="rId2"/>
          <a:stretch/>
        </p:blipFill>
        <p:spPr>
          <a:xfrm>
            <a:off x="1981080" y="3809880"/>
            <a:ext cx="533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ter moves slower in a river and debris settles on the botto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ecause of this, rivers tend to have more nutrients and less dissolved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utrient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06668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>
            <a:off x="419112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river"/>
          <p:cNvPicPr/>
          <p:nvPr/>
        </p:nvPicPr>
        <p:blipFill>
          <a:blip r:embed="rId2"/>
          <a:stretch/>
        </p:blipFill>
        <p:spPr>
          <a:xfrm>
            <a:off x="1600200" y="2666880"/>
            <a:ext cx="5969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mall, shallow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penetrates all the way to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st completely filled with plan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ery high amount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pond"/>
          <p:cNvPicPr/>
          <p:nvPr/>
        </p:nvPicPr>
        <p:blipFill>
          <a:blip r:embed="rId2"/>
          <a:stretch/>
        </p:blipFill>
        <p:spPr>
          <a:xfrm>
            <a:off x="2590920" y="1981080"/>
            <a:ext cx="43513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rger and deeper than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t growth is limited to the sho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does NOT penetrate to the bottom= no plants after a certain dep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08%20-%20Moraine%20Lake"/>
          <p:cNvPicPr/>
          <p:nvPr/>
        </p:nvPicPr>
        <p:blipFill>
          <a:blip r:embed="rId2"/>
          <a:stretch/>
        </p:blipFill>
        <p:spPr>
          <a:xfrm>
            <a:off x="2438280" y="1981080"/>
            <a:ext cx="57024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kt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microscopic algae, plants, and other organisms that float on the surface of water bi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lank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plankton"/>
          <p:cNvPicPr/>
          <p:nvPr/>
        </p:nvPicPr>
        <p:blipFill>
          <a:blip r:embed="rId2"/>
          <a:stretch/>
        </p:blipFill>
        <p:spPr>
          <a:xfrm>
            <a:off x="1143000" y="3809880"/>
            <a:ext cx="1943280" cy="2492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plankt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3886200"/>
            <a:ext cx="1714680" cy="24382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8"/>
          <p:cNvSpPr/>
          <p:nvPr/>
        </p:nvSpPr>
        <p:spPr>
          <a:xfrm>
            <a:off x="5638680" y="38098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need sunlight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228600" y="1828800"/>
            <a:ext cx="8915400" cy="4648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hytoplankton</a:t>
            </a:r>
            <a:r>
              <a:rPr b="0" lang="en-US" sz="3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important producers in water biomes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lank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5562720" y="3352680"/>
            <a:ext cx="28954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They are the first step in many aquatic food cha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8" descr="plankton"/>
          <p:cNvPicPr/>
          <p:nvPr/>
        </p:nvPicPr>
        <p:blipFill>
          <a:blip r:embed="rId2"/>
          <a:stretch/>
        </p:blipFill>
        <p:spPr>
          <a:xfrm>
            <a:off x="1295280" y="3200400"/>
            <a:ext cx="358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228600" y="2286000"/>
            <a:ext cx="8763120" cy="2362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bout 95% of the water on Earth has a high concentration of salt. (High salin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457200" y="2286000"/>
            <a:ext cx="8229600" cy="3505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What are the 3 types of symbiosis found in n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228600" y="1828800"/>
            <a:ext cx="8763120" cy="43434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 (Wetla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rea where a river meets 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ix of salt and fresh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ocated near coastlines, bor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xtremely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utrient levels are higher than both salt and fresh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hesapeak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ChesBay"/>
          <p:cNvPicPr/>
          <p:nvPr/>
        </p:nvPicPr>
        <p:blipFill>
          <a:blip r:embed="rId2"/>
          <a:stretch/>
        </p:blipFill>
        <p:spPr>
          <a:xfrm>
            <a:off x="4572000" y="1973160"/>
            <a:ext cx="32767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ash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des have a huge influence on lif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ntertidal Zone 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rtion of the shoreline that is covered with water at high tide and exposed to the air at low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an be sandy or 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mall fish, clams, crabs, other mussels are trapped in the tidal pools during low t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rtidal Z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rtidal Z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tidal%20pool"/>
          <p:cNvPicPr/>
          <p:nvPr/>
        </p:nvPicPr>
        <p:blipFill>
          <a:blip r:embed="rId2"/>
          <a:stretch/>
        </p:blipFill>
        <p:spPr>
          <a:xfrm>
            <a:off x="1600200" y="2209680"/>
            <a:ext cx="601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c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an be divided into 2 main life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1. Photic zone- Sunlight penet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2. Aphotic zone- NO sun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bove 100 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penet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t life and ani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ife is ab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9210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85800" y="2252520"/>
            <a:ext cx="4038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nlight DOES NOT pene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no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imal life is highly spec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lsl_deep_m070"/>
          <p:cNvPicPr/>
          <p:nvPr/>
        </p:nvPicPr>
        <p:blipFill>
          <a:blip r:embed="rId2"/>
          <a:stretch/>
        </p:blipFill>
        <p:spPr>
          <a:xfrm>
            <a:off x="5105520" y="1952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3" descr="lsl_deep_m071"/>
          <p:cNvPicPr/>
          <p:nvPr/>
        </p:nvPicPr>
        <p:blipFill>
          <a:blip r:embed="rId3"/>
          <a:stretch/>
        </p:blipFill>
        <p:spPr>
          <a:xfrm>
            <a:off x="5029200" y="4495680"/>
            <a:ext cx="3643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2057400"/>
            <a:ext cx="502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of the creatures of the deep ocean have a special adaptation known a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iolumi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v001_tif"/>
          <p:cNvPicPr/>
          <p:nvPr/>
        </p:nvPicPr>
        <p:blipFill>
          <a:blip r:embed="rId2"/>
          <a:stretch/>
        </p:blipFill>
        <p:spPr>
          <a:xfrm>
            <a:off x="5486400" y="2057400"/>
            <a:ext cx="3429000" cy="2009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jellyfish"/>
          <p:cNvPicPr/>
          <p:nvPr/>
        </p:nvPicPr>
        <p:blipFill>
          <a:blip r:embed="rId3"/>
          <a:stretch/>
        </p:blipFill>
        <p:spPr>
          <a:xfrm>
            <a:off x="5257800" y="4267080"/>
            <a:ext cx="1581120" cy="2005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Silvercord_Bioluminescence_RESIZED"/>
          <p:cNvPicPr/>
          <p:nvPr/>
        </p:nvPicPr>
        <p:blipFill>
          <a:blip r:embed="rId4"/>
          <a:stretch/>
        </p:blipFill>
        <p:spPr>
          <a:xfrm>
            <a:off x="6934320" y="4267080"/>
            <a:ext cx="2011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9" name="Title 4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hapter 4.5 – Aquatic Eco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1371600" y="1828800"/>
            <a:ext cx="6477120" cy="4572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541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228600" y="1828800"/>
            <a:ext cx="8763120" cy="4572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e call our planet 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arth,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yet nearly three-fourths of Earth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surface is covered with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Despite the vital roles aquatic ecosystems play in the biosphere, many of these ecosystems are only partly underst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hink About I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not on no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3"/>
          <p:cNvSpPr/>
          <p:nvPr/>
        </p:nvSpPr>
        <p:spPr>
          <a:xfrm>
            <a:off x="228600" y="1981080"/>
            <a:ext cx="8763120" cy="3429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Describe the factors that affect aquatic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Describe and compare the distinct ocean zones that make up marine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limiting factors in water biome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ount of salt (salin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ount of dissolve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quatic 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resh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 and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alt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ashores (tidal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Types of 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reshwater contains little or no salt, so it has a LOW sali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lowing freshwater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ill Freshwater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 and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faster a stream flows the greater the amount of dissolved oxyg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aster water flows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3"/>
          <p:cNvCxnSpPr/>
          <p:nvPr/>
        </p:nvCxnSpPr>
        <p:spPr>
          <a:xfrm flipV="1">
            <a:off x="5562360" y="4038120"/>
            <a:ext cx="1080" cy="610560"/>
          </a:xfrm>
          <a:prstGeom prst="straightConnector1">
            <a:avLst/>
          </a:prstGeom>
          <a:ln w="698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3:35:17Z</dcterms:created>
  <dc:creator>ISD833</dc:creator>
  <dc:description/>
  <dc:language>en-US</dc:language>
  <cp:lastModifiedBy>dzahm</cp:lastModifiedBy>
  <dcterms:modified xsi:type="dcterms:W3CDTF">2014-01-14T15:44:08Z</dcterms:modified>
  <cp:revision>210</cp:revision>
  <dc:subject/>
  <dc:title>Ch 4.3 Succession</dc:title>
</cp:coreProperties>
</file>